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909-C70B-405B-898F-4B4C4775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B25-4781-4B40-9160-CF6FD456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5E8-57EB-48C5-9987-5C35C385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CBA-1F17-4E3B-B1C9-9472909F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A65-4252-4BBB-9F5C-DBB3A1BC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728-A392-4F5A-8DD9-5E54AEAB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AB76-AC85-4DD5-928F-9697D1F7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A4E-92C7-475C-A420-64A33D7C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0CD-A95C-4B71-9CCA-B64007DD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9B6-8D39-4581-B149-B0C3A373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D69D-28EE-4FCE-AEA8-408A875A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5E9-A13B-41E7-9CE1-EDB89879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89F9-7267-4B43-A884-A9609A6C5B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840" y="1447920"/>
            <a:ext cx="7206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at Can Be D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bout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Qualitativel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1447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7848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2575080"/>
            <a:ext cx="74674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1730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543800" cy="1038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5800" y="3276720"/>
            <a:ext cx="7543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1730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54380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5800" y="327672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1730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543800" cy="1006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5800" y="3276720"/>
            <a:ext cx="75438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7619760" cy="1089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3581280"/>
            <a:ext cx="7619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543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7619760" cy="1447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620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34320" y="6019920"/>
            <a:ext cx="14475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9152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73152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1:11Z</dcterms:modified>
  <cp:revision>213</cp:revision>
  <dc:subject/>
  <dc:title>Slide 1</dc:title>
</cp:coreProperties>
</file>